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EBD-9E32-4A7F-84A7-A6F10114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0A6-C6FB-4996-B46F-A6D33FAC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36C-4EEC-4540-A595-C7364337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5F6-451A-4866-B9D0-5048FF4F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7E27-37F6-4485-BE4F-2F2788C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8CF4-0477-4E8A-B1D5-D3DD3F93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2A89-7FFA-4B42-9EAD-CA32386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B274-358F-4BBC-A7B1-EE13B16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451-DD35-40C2-B2B6-107B741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67D-D110-4A6E-A4D7-4E0BCBB0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D5C8-9A71-44BF-B0A2-C6B4637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E8E-622B-42AE-B709-816A8F1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8DEE-3AA3-480C-8C36-F406ACD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78E4-6231-4EE4-AE69-90331C8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FDC2-782D-42F9-B472-BB99D86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B912-2CEF-4F97-B95D-FCED22D3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EE43-BB23-494C-9A06-FB42C2CC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B5E-740A-487A-B529-18F5859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4B3-C0EB-43F6-855A-394BE0D2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112-5C6C-4B1A-AA59-E12F252D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BF0-781A-4B67-8007-2450D5E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875-F975-4572-90DE-0FCCA71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83C-4FA3-4515-8962-347EA4B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DF8-5DAB-4F4B-8297-C092032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5D5-C2E1-4739-B67F-1E27BF0C26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CE5-F47D-4D10-9A2B-E4BD9110A0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0:48:31Z</dcterms:modified>
  <cp:revision>2</cp:revision>
  <dc:subject/>
  <dc:title>Slide 1</dc:title>
</cp:coreProperties>
</file>